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9073-6140-436A-AC51-CCCAD79AB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9C89-5586-4947-9628-70A39DDF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9B59-B28C-4387-A345-B557CC61A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E0F6-6D65-4193-9728-4B1AD886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92A0-2448-41A9-9A43-847F64F0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74A6-C731-41E6-8195-98F44E28F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53C2F-62AD-4073-8FBC-2A32CF8E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9B78-A8CA-4434-BD9F-A918D0963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EE844-F040-4989-967E-FE43E90C5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A3B-DAA8-439C-8C2C-78ECD32AE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EC68-8C76-422A-8484-FA588FD3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0848-3F00-4048-A7C3-1C3F4036A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D87B-A0AF-4609-80A7-C814C4BA5C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4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reas and Dista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AREA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85840" y="2336760"/>
            <a:ext cx="6286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Times New Roman"/>
              </a:rPr>
              <a:t>area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o find the area of the region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at lies under the curv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rom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See the figure be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4" descr="img003"/>
          <p:cNvPicPr/>
          <p:nvPr/>
        </p:nvPicPr>
        <p:blipFill>
          <a:blip r:embed="rId1"/>
          <a:stretch/>
        </p:blipFill>
        <p:spPr>
          <a:xfrm>
            <a:off x="1657440" y="4368960"/>
            <a:ext cx="3828960" cy="421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NDING THE AREA UNDER A CUR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05772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vide (partition) the interval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 in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qual pieces (subintervals) of width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bintervals are: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, . . . ,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.  Note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lt; . . . 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lt;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4267080" y="4419720"/>
                <a:ext cx="2590920" cy="15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 (CONTINUE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0004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up area of right (left) rectang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the limit a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pproaches infinity to find true area under the curv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1" name="Object 4"/>
              <p:cNvSpPr txBox="1"/>
              <p:nvPr/>
            </p:nvSpPr>
            <p:spPr>
              <a:xfrm>
                <a:off x="685800" y="2844720"/>
                <a:ext cx="434340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Δx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Δ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762120" y="7315200"/>
                <a:ext cx="39272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3"/>
          <p:cNvSpPr/>
          <p:nvPr/>
        </p:nvSpPr>
        <p:spPr>
          <a:xfrm>
            <a:off x="228600" y="2133720"/>
            <a:ext cx="6343560" cy="579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using left endpoints or right endpoints, we could take the height of the rectangle to be the value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t </a:t>
            </a:r>
            <a:r>
              <a:rPr b="0" i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an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umber      in th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 subinterval 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−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  These numbers are called 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sample point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Thus, the area can be given 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4"/>
              <p:cNvSpPr txBox="1"/>
              <p:nvPr/>
            </p:nvSpPr>
            <p:spPr>
              <a:xfrm>
                <a:off x="3314880" y="3352680"/>
                <a:ext cx="390240" cy="101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6"/>
              <p:cNvSpPr txBox="1"/>
              <p:nvPr/>
            </p:nvSpPr>
            <p:spPr>
              <a:xfrm>
                <a:off x="685800" y="5638680"/>
                <a:ext cx="5029200" cy="188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</m:e>
                        </m:d>
                        <m:r>
                          <m:t xml:space="preserve"> </m:t>
                        </m:r>
                        <m:r>
                          <m:t xml:space="preserve">Δ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ISTANC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285840" y="2336760"/>
            <a:ext cx="6229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Times New Roman"/>
              </a:rPr>
              <a:t>distance proble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to find the distance traveled by an object during a certain time period if the velocity of the object is known at all tim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85840" y="2336760"/>
            <a:ext cx="62863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edometer readings for a motorcycle at 12-second intervals are given in the table below.  Find two estimates for the distance traveled by the motorcycle for this 60-second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0" y="5334120"/>
          <a:ext cx="6858000" cy="3520800"/>
        </p:xfrm>
        <a:graphic>
          <a:graphicData uri="http://schemas.openxmlformats.org/drawingml/2006/table">
            <a:tbl>
              <a:tblPr/>
              <a:tblGrid>
                <a:gridCol w="1457280"/>
                <a:gridCol w="919080"/>
                <a:gridCol w="920880"/>
                <a:gridCol w="919080"/>
                <a:gridCol w="920880"/>
                <a:gridCol w="919080"/>
                <a:gridCol w="801720"/>
              </a:tblGrid>
              <a:tr h="1432440">
                <a:tc>
                  <a:txBody>
                    <a:bodyPr lIns="68760" rIns="68760" tIns="60840" bIns="60840" anchor="ctr">
                      <a:noAutofit/>
                    </a:bodyPr>
                    <a:p>
                      <a:pPr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sec)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6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8360">
                <a:tc>
                  <a:txBody>
                    <a:bodyPr lIns="68760" rIns="68760" tIns="60840" bIns="60840" anchor="ctr">
                      <a:noAutofit/>
                    </a:bodyPr>
                    <a:p>
                      <a:pPr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i="1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</a:t>
                      </a: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ft/sec)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8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2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ctr">
                      <a:noAutofit/>
                    </a:bodyPr>
                    <a:p>
                      <a:pPr algn="ctr">
                        <a:spcBef>
                          <a:spcPts val="10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3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</a:t>
                      </a:r>
                      <a:endParaRPr b="0" lang="en-US" sz="4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ISTANCE TRAVEL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3"/>
          <p:cNvSpPr/>
          <p:nvPr/>
        </p:nvSpPr>
        <p:spPr>
          <a:xfrm>
            <a:off x="228600" y="2336760"/>
            <a:ext cx="6400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distance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raveled by an object with velocity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Object 4"/>
              <p:cNvSpPr txBox="1"/>
              <p:nvPr/>
            </p:nvSpPr>
            <p:spPr>
              <a:xfrm>
                <a:off x="0" y="3962520"/>
                <a:ext cx="6858000" cy="15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Δt</m:t>
                        </m:r>
                      </m:e>
                    </m:nary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Δ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2T01:32:02Z</dcterms:created>
  <dc:creator>Allen Fuller</dc:creator>
  <dc:description/>
  <dc:language>en-US</dc:language>
  <cp:lastModifiedBy>sraja</cp:lastModifiedBy>
  <dcterms:modified xsi:type="dcterms:W3CDTF">2011-02-11T15:53:17Z</dcterms:modified>
  <cp:revision>36</cp:revision>
  <dc:subject/>
  <dc:title>Section 5.1</dc:title>
</cp:coreProperties>
</file>